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-103320" y="3240"/>
          <a:ext cx="705816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3240"/>
                    <a:ext cx="705816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5791680" y="345276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02840" y="482616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2840" y="5506920"/>
            <a:ext cx="67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1520" y="5796000"/>
            <a:ext cx="41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6800" y="5460840"/>
            <a:ext cx="373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17600" y="3906720"/>
            <a:ext cx="1620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200" y="7562880"/>
            <a:ext cx="1515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348-58776 DTD 28JUN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8280" y="6794640"/>
            <a:ext cx="1352520" cy="61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4520" y="6858000"/>
            <a:ext cx="137628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6280" y="877572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4920" y="1765440"/>
            <a:ext cx="1239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. DATE:  28 JUN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103320" y="3240"/>
          <a:ext cx="7058160" cy="913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3320" y="3240"/>
                    <a:ext cx="7058160" cy="91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860440" y="345276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0440" y="482616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49280" y="5506920"/>
            <a:ext cx="57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8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1520" y="5796000"/>
            <a:ext cx="41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6440" y="5322960"/>
            <a:ext cx="373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417600" y="3906720"/>
            <a:ext cx="1620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200" y="7562880"/>
            <a:ext cx="1515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348-58761 DTD 28JUN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48280" y="6794640"/>
            <a:ext cx="1352520" cy="610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6858000"/>
            <a:ext cx="14526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280" y="885204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08840" y="1868400"/>
            <a:ext cx="12394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. DATE:  28 JUN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440" y="227160"/>
            <a:ext cx="6734160" cy="83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1.  PROC.  INSTRUMENT  ID  (CONTRACT)  ORDER NO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DAFI01 ** C 4612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456-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24 JUN **                                            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 PRIME CONTRACTOR          CODE           10.   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XEROX CORPORATION                                CONTRACTING &amp; PROCUREMEN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02 CENTRAL AVE.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LLAS, TX 762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TTN:  ACCOUNTS PAYABLE BRANCH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E DESCRIPTION BE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  17. QUANTITY*  18.      19.           20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NDICATE # OF SHIPPING CONTAINERS)       SHIP/REC’D    UNIT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1  GENERAL MAINTENANCE FOR OFFICE COPIERS          1        MO        $259.95     $259.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CATED IN BLDG 482, ROOMS 101 &amp; 105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INTENANCE OF COPIERS WILL B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ERFORMED ONCE MONTHLY UNLESS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PAIRS ARE NECESSARY. THIS MAINTE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GREEMENT IS IN EFFECT FOR THE PERIO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JUN-31 MAY **.  COPIER MODELS AR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OM 101 XEROX 2060, SERIAL # 2582-TR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678 ROOM 105 XEROX 4590, SERIAL 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581098-GW-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 PROCUREMENT QUALITY ASSURANCE  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25 JU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Courier New"/>
              </a:rPr>
              <a:t>**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Lucida Handwriting"/>
              </a:rPr>
              <a:t>PAUL ELLIOT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Scrip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S.                       SUPPORTING DOCUMENTS             DATE REC  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Script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Script"/>
              </a:rPr>
              <a:t>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Script"/>
              </a:rPr>
              <a:t>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Script"/>
              </a:rPr>
              <a:t>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   SIG.OF AUTH REP.      DATE     SIG. OF AUTH GOVT REP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Q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1400" y="8597880"/>
            <a:ext cx="2772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150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21200" y="5335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40" y="5486400"/>
            <a:ext cx="670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840" y="5587920"/>
            <a:ext cx="671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560700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94400"/>
            <a:ext cx="0" cy="21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3160" y="890748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6934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228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8440" y="69343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69343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1800" y="8674200"/>
            <a:ext cx="24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343400"/>
            <a:ext cx="1523880" cy="749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432320"/>
            <a:ext cx="1900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680" y="8597880"/>
            <a:ext cx="60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40" y="227160"/>
            <a:ext cx="6765480" cy="847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ATERIAL INSPECTION  1.  PROC.  INSTRUMENT  ID  (CONTRACT)  ORDER NO  6.  INVOICE  7. PAGE 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CEIVING REPORT                    DAFI01 ** M 8194                  8.  ACPT PT: FT STEW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.  SHIPMENT #    3.  DATE SHIPPED      4. B/L                          DISCOUNT TE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652-**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5 JUN **                                         NET 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9. PRIME CONTRACTOR           CODE           10.    ADMINSTER BY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MITH &amp; CORONA INC.                              CONTRACTING &amp; PROCUREMENT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21 LUDLOW STREET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ICHMOND HILL, GA 313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1.  SHIPPED FROM             CODE      FOB  12.   PAYMENT WILL BE MADE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IF OTHER THAN 9)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TTN:  ACCOUNTS PAYABLE BRANCH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3. SHIPPED TO               CODE            14.  MARKED FOR                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IRECTOR, LOGISTICS DIVI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BLDG: 6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15. ITEM  16. STOCK/PART NO   DESCRIPTION      17. QUANTITY*    18.       19.           2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    (IDICATE # OF SHIPPING CONTAINERS)    SHIP/REC’D      UNIT     UNIT PRICE    AMOU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1     SMITH &amp; CORONA WORD PROCESSOR           5            EA       $259.75      $1,299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DEL # 289-WP-45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0002     WORD PROCESSOR PRINTER RIBBONS         15            EA          9.75        $146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ERIAL # 0257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1.PROCUREMENT QUALITY ASSURANCE                                  22.   RECEIVER’S 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.  ORIGIN                     B.  DESTINATION           QUANTITIES SHOWN IN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 ]PQA [ ]ACCEPTANCE OF LISTED   [ ]PQA [ ]ACCEPTANCE OF LISTED   17 WERE RECEIVED IN APPAR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TEMS HAS BEEN MADE BY ME OR     ITEMS HAS BEEN MADE BY ME OR     GOOD CONDITION EXCEPT 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DER MY SUPERVISION AND THEY    UNDER MY SUPERVISION AND THEY    NO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NFORM TO CONTRACT EXCEPT AS    CONFORM TO CONTRACT, EXCEPT        30 JUN **   </a:t>
            </a: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JI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OTED HEREIN OR ON SUPORTING     AS NOTED HEREIN OR ON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SUPPORTING DOCUMEN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REC    SIGN. OF AUTH 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JIM MO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3JUL**    </a:t>
            </a: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RAY BELL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AND OFFIC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IEF 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ATE    SIG. OF AUTH REP.        DATE    SIG. OF AUTH GOVT REP     IF QUANTITY RECEIVED BY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OV’T IS THE SAME AS AUA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HIPPED, IDICATE BY CHE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YPE NAME                         TYPE NAME                        MARK, IF DIFFERENT 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OFFICE                        AND TITLE                        ACTUAL# RECEIVED &amp; ENCIRC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23.  CONTRACTOR US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880" y="8597880"/>
            <a:ext cx="2772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D FORM 250  (COMPUTER LOOK ALIK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440" y="6858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2350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9360" y="533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235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440" y="10666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6922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440" y="17524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40" y="312408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07316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243828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2438280"/>
            <a:ext cx="356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40" y="34290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440" y="5486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1305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320" y="555588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40" y="556272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440" y="7772400"/>
            <a:ext cx="669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56884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4440" y="64008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6560" y="640080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3160" y="8907480"/>
            <a:ext cx="33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440" y="68580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5960" y="685800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8440" y="68580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01960" y="6858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02840" y="875016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6840" y="4425840"/>
            <a:ext cx="151776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45259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4470480"/>
            <a:ext cx="176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7040" y="8750160"/>
            <a:ext cx="6067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 72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-272880" y="-217440"/>
          <a:ext cx="7394400" cy="956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2880" y="-217440"/>
                    <a:ext cx="7394400" cy="9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11680" y="1203480"/>
            <a:ext cx="585828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M-4164                                                                        21 MAY **                PRC 058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 INF                                                                                                                                                                 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0240" y="2209680"/>
            <a:ext cx="494244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OLSTON COMPUTER FURNITURE                                                                        15 JUN 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01 HOLSTON DRIVE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EMBROKE, GA 31321                                                                                                 2/10, N/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480" y="3108240"/>
            <a:ext cx="49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INFORMATION MGMT               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498                                                                                          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3640" y="3906720"/>
            <a:ext cx="2545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8040" y="4778280"/>
            <a:ext cx="3378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03-3116 117096.Z0-26EB W91INF*1644164/1F81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600" y="5486400"/>
            <a:ext cx="6691680" cy="18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             COMPUTER SYSTEMS STATION STORAGE SHELF                            10             EA              $833.00                  $8,3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ONITOR SHELF, KEYBOARD SHELF, AND PRI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HELF, WITH PAPER CATCHER AND SUPPLY SHEL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8,3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480" y="7804080"/>
            <a:ext cx="2161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JUL **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FRED B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0080" y="7883640"/>
            <a:ext cx="2451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080" y="8675640"/>
            <a:ext cx="1216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Handwriting"/>
              </a:rPr>
              <a:t>RAY DEARBO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52960" y="8732880"/>
            <a:ext cx="728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0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51680" y="8913960"/>
            <a:ext cx="288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63720" y="6246720"/>
            <a:ext cx="1336680" cy="568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74800" y="6256440"/>
            <a:ext cx="150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28920" y="7245360"/>
            <a:ext cx="954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20520" y="8991720"/>
            <a:ext cx="57276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8400" y="8999640"/>
            <a:ext cx="546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33640" y="708660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-228600"/>
          <a:ext cx="6858000" cy="955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6858000" cy="955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560" y="1182600"/>
            <a:ext cx="5037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FI01-**-F-2701                                          0001            15 MAY **                       PRC 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520" y="1424160"/>
            <a:ext cx="6567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/91ST MECH INF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0600" y="2279520"/>
            <a:ext cx="463500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SON OFFICE EQUI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42 OSCAR DRIV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NET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DING, PA 32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360" y="2948040"/>
            <a:ext cx="558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80" y="3044880"/>
            <a:ext cx="485928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, INFORMATION MGMT                            OPERATING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DG 498                                                                         ACCOUNT PAYABLE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T STEWART, GA 31314                                          FOR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" y="4678200"/>
            <a:ext cx="3186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7x4930.AC27 76 W91IMO*1560391 S09076 APC: 9SF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9720" y="5477040"/>
            <a:ext cx="628272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001         30’ ADJUSTABLE  TERMINAL STATIONS                          10           EA        443.95                $4,439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 # 234- T- 98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002         PRINTER STAND WITH 3” X 19’ PAPER SLOT, AND         2           EA        169.83                    $339.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R PAPER CATCHER BASKET. MODEL 3 148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88080" y="6934320"/>
            <a:ext cx="7369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4, 779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9000" y="7790040"/>
            <a:ext cx="277308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JUL **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FRED B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4560" y="7842240"/>
            <a:ext cx="3758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2880" y="8672400"/>
            <a:ext cx="21830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cript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RAY DEARBORN</a:t>
            </a:r>
            <a:r>
              <a:rPr b="0" lang="en-US" sz="900" spc="-1" strike="noStrike">
                <a:solidFill>
                  <a:srgbClr val="000000"/>
                </a:solidFill>
                <a:latin typeface="Script"/>
              </a:rPr>
              <a:t>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3520" y="8686800"/>
            <a:ext cx="6440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JUL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65360" y="8937720"/>
            <a:ext cx="2858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59240" y="7175520"/>
            <a:ext cx="10965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.N. PURCE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5240" y="6283440"/>
            <a:ext cx="1685880" cy="6411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27200" y="6302520"/>
            <a:ext cx="1816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9440" y="8924760"/>
            <a:ext cx="570024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51680" y="8983800"/>
            <a:ext cx="494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600" rIns="8460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PY 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33640" y="708660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-272880" y="-217440"/>
          <a:ext cx="7394400" cy="956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2880" y="-217440"/>
                    <a:ext cx="7394400" cy="956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89360" y="1219320"/>
            <a:ext cx="1122732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FI01-**-C 7623                                                                                 1 JUN **                PRC 0172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CONTRACTING &amp; PROCU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/91ST MECH  INF                                                                                                                                                                              X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4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5640" y="2238480"/>
            <a:ext cx="5000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NSON PARTS &amp; SUPPLIES                                                                                        13 JUN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123 CONSTELLATION BLVD.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VANNAH, GA 31318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E ITEM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600" y="3144960"/>
            <a:ext cx="4881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OR, LOGISTICS DIVISION                                            OPERATING LO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DG 300                                                                                       ACCOUNTS PAYABLE BRAN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ORT STEWART, GA 31318                                                        FORT STEWART, GA 313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00" y="3833640"/>
            <a:ext cx="2833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4705200"/>
            <a:ext cx="345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1*2020 03-3116 117096.Z0-26EB W91INF*1527623/BNBA S090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" y="5430960"/>
            <a:ext cx="6604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         CARBURATOR, 2 BARREL, MODEL 14235                                                5            EA                 $129.95               $649.7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2         DRIVE SHAFT, MODEL 12907                                                                      2            EA                 $199.95                $399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3         BRAKE SHOES, STANDARD, FORD, MODEL 51423                              10            EA                  $45.85                 $458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4         BRAKE PADS, STANDARD FORD, MODEL 51324                                   10           EA                   $39.95                $399.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5         WATER PUMP, MODEL 61423                                                                      3            EA                   $94.75                $284.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4600" y="6991200"/>
            <a:ext cx="8427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$2,191.9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7920" y="9001080"/>
            <a:ext cx="288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9120" y="7245360"/>
            <a:ext cx="95400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6477120"/>
            <a:ext cx="1447920" cy="484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6494400"/>
            <a:ext cx="1717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D IN OPL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 JUL **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0840" y="8991720"/>
            <a:ext cx="65926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726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6920" y="7086600"/>
            <a:ext cx="9021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4T14:53:30Z</dcterms:created>
  <dc:creator>Soldier Support Institute</dc:creator>
  <dc:description/>
  <dc:language>en-US</dc:language>
  <cp:lastModifiedBy>Administrator</cp:lastModifiedBy>
  <cp:lastPrinted>2000-02-25T20:44:25Z</cp:lastPrinted>
  <dcterms:modified xsi:type="dcterms:W3CDTF">2004-09-21T21:17:02Z</dcterms:modified>
  <cp:revision>14</cp:revision>
  <dc:subject>COMMERCIAL ACCOUNTS</dc:subject>
  <dc:title>PE COVER SHEET</dc:title>
</cp:coreProperties>
</file>